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1C1A4-9A58-4117-9FE8-D9ED9F1C4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8"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9"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0FAD5-2D51-4480-B646-0D474963C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40"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41"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1B8186-ECBF-4497-9993-C06C24FE11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07A346-1703-4543-88FC-661E3FFAAA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F67C51-0E85-4ADE-8F31-BDD3679EDB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45"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46"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47"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A5B3DD-982A-41BA-BC63-0B028E744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49"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50"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51"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81D54C-B7B7-490D-AA9A-7875247F7E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53"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54"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55"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4DD406-41AC-4EEE-BEFC-92E65950AC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57"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58"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FAAA33-8197-4534-908C-F77BC26A60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60"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1"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2"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3"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C0D782-8D05-4470-8CA4-34DD5C66DE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65"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6"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7"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8"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69"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70"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73EFF4-ADCB-4396-82FF-94F3CE70EE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13A1FD-7715-4362-8836-125FFA8BAE3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1"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3"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4"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E4CC7-BDDF-477A-B3EB-C5E376653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77"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5C428F-3E5A-4A64-9359-4E839F42AB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79"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97DFD6-975D-4258-B935-C240D02970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81"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82"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11689F-78D7-43C8-92D1-21BA571CD6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828DC6-2F34-492B-947E-019FD33DA7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8ECA00-D968-4872-A415-41553D709D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86"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87"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88"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7FDB00-DC37-414C-99DC-9A0317B385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90"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1"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2"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492A3A-C229-48DA-BEBD-0869D781C0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94"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5"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6"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E0FE48-77EE-433F-9A9A-6DC888082F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98"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9"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0E71CA-7C41-44EA-B3C2-D49E3019BC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01"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2"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3"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4"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6D8A32-C7FA-4326-8F77-76B8E3AEB5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6"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7"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8"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9"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1"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D42BE-77F0-4739-8CA2-5BC784DA2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06"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7"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8"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09"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10"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11"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AB29FE-3985-4921-824A-84E423B606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0526D0D-BB58-4ED2-B5B9-C7B3F9A5A7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18"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4D2059-A13C-4143-A8BD-098F07EDE9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20"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6E255E-7C96-4FD0-B101-5188EBF687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22"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23"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D1B5AA-412C-4F76-89D9-99E23166AD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5DF9AA-C797-4033-9902-3CC7839713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016A4E-1716-47BD-8805-FBF63AE841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27"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28"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29"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2490DC-089E-4CA6-BFC2-01C238B292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31"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32"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33"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791E92-F630-4B2A-93ED-A3E4EAFE0A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35"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36"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37"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8AD1CD-ADA3-47CD-8B1D-8BBE0B8A8B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41246-36C9-4F69-9702-CFA28E288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39"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0"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BEDC3E-6434-4F6B-AF7D-3E2C86BF6A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42"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3"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4"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5"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E6E98E-E0BD-4D72-969C-8F56E1D99F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47"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8"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49"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50"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51"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52"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D242B5-F114-4526-B5EB-F770A49BFFC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3EB90F-5484-49E5-A9F5-8832EC4806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59"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A07E0E-1910-4CD8-992F-90E20711AD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61"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B9F869-1092-41D7-A3F5-6790E95F83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63"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64"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9F0A7C-0873-40D5-B5B4-222A72E73F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7BB5AF-7351-4D4E-ACFD-46079899BE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6763AB-517D-432F-9B0F-F6437DAB5D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68"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69"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70"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0C572D-18A3-4107-A1DE-9704A26C37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8"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CCF84-7455-483C-8164-911C0A6D6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72"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73"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74"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B13063-C043-4EF9-8BCD-FEAC01568D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76"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77"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78"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8C85FA-ABBE-478F-8D53-973A4ED519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80"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81"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11F1AA-9E40-43A8-8944-D446009828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83"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84"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85"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86"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F36E2F9-0010-40EA-91D1-314C24B8602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488"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89"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90"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91"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92"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93"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A6DFE5-75F4-4730-8849-9BD0A839227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50"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D5610-8698-4B41-81AF-BD268A587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52"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3"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517EC-137E-4100-A79E-6DA5ECE43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303B1-61DC-433F-95A7-429272FB2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8DC92-1EE5-43FD-B69A-43D829EFB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57"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8"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9"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BA873-0983-4FEE-B71F-7487AC6CA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7"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5172B-FB3D-4B01-AB84-183ACAA7B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61"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2"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3"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98CCD-2F8F-40B2-8E55-3E3D01B47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65"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6"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7"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C9029-DE83-4668-AA80-77C5E337B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69"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0"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ABF08-152F-41F3-8FB5-C145DE5EB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72"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3"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4"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5"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E8F19-8802-4D58-8E59-233B14F26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77"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8"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9"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80"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81"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82"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86374-0890-41AF-B120-EAFC0A3D8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AD4137-ED48-4875-85E1-0BE98850F1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89"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16E0D-E67F-445A-B351-6620419593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91"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46A957-E8ED-4489-9FD0-455A064277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93"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4"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A1E4F-077B-467B-A7F7-7426A46E17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9A5ADB-EF56-4E70-80CA-08CA5AAE5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9"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C87FA-626B-4748-82CA-EAF7A63F4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A1F2C9-8550-49DE-A040-D874E5D92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98"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9"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00"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B4BA3-4927-4CD0-9EDE-304760146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02"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03"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04"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E0A39-2D38-4252-A97F-DE751E7C6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06"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07"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08"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5B1F0-EC14-4837-B6E7-831F23C70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10"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11"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4C52C-B3E9-46CC-BAEF-1C47ED783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13"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14"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15"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16"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6F8301-ACED-4E25-9C5A-007D66BA8C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18"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19"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20"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21"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22"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23"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1A3524-D85B-41D1-AB6A-F8C2EE7172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CB0A19-23C7-47E6-B3DB-8C71963C2A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30"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6A61F1-E206-40C3-9FCE-D88158C14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32"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B5E4D-DB28-4FF9-B8E2-95272C838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1"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2"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6EECA-3F74-4EBB-9A03-6CE38CA9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34"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35"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3F9CA-C9C5-4E73-A58F-CBF9267CCA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00C2BA-29F4-4CCC-98A1-64EA96FAD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2DB9D-C009-4748-99E8-CAFE4C681C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39"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0"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1"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CBA59-D707-43C0-AE4F-C554FF814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43"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4"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5"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529371-401B-4FC6-9DC4-8D962DB9DB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47"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8"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49"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1FF7B-4FDF-4ACA-9D16-A07368F1A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51"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52"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C8406A-C077-486E-B71D-253A14036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54"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55"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56"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57"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E2BA7F-D956-445F-B02C-806F97C8B6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59"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60"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61"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62"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63"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64"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9DE313-8714-4BE0-BF4A-9739A905E7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C146FC-4C1D-4217-8EB4-F33491E83D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DB874-E22A-49BF-9CBE-CE5B498C1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72"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E73A32-5536-47DC-9821-F102D5A3A4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74"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01C863-AAD4-4D87-B887-A2F8CB503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76"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77"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789B1-4EE5-4BCE-B7E2-914881E41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A4A745-34F5-45AF-94D1-1F0158561E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AAC6EE-070C-49CB-B763-EE2980C494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81"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82"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83"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9406A-0367-4871-964B-F2BA2F75B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85"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86"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87"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718B03-53E3-49E2-8327-CEF265CA4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89"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0"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1"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0CC77-53D4-4252-855C-CA7C68F68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93"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4"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981F10-CD33-4595-937A-49242959A2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96"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7"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8"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99"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26FF0C-BF5E-4541-B91D-E2DD1F2DD9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75071-E915-4CDD-814D-422A56D71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01"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02"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03"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04"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05"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06"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E8B280-90AA-4D36-818A-75CB92FEE4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137C47-BC95-4495-B81C-6785B71467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13"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FFA4F8-C28E-4EDF-8F44-25ED63475A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15"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AFDDBF-6822-4EDD-BE6B-D5CE05DC17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17"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18"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7D0D94-1F5E-4CF7-A314-011A3F37FC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65BE93-4087-4653-A93D-996F3BDC98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67AC0B-4166-426F-9D3B-EC1A48F9BA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22"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23"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24"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9328D0-42EC-449D-ADE5-9A8E3C0810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26"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27"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28"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AF9A6-658E-404C-854B-68D05D4C96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30"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31"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32"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C3DE0E-1524-4A0B-895C-54B8B36B7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16"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7"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18"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4F950-7140-4626-9EF9-646B6405A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34"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35"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015446-5D9C-4B5D-985A-6920C789C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37"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38"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39"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0"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0AD423-2F0F-4DA5-A0B9-C3240604C6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42"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3"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4"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5"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6"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47"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DE5496-E87B-4377-9877-9E2376552F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442C55-6410-4C32-A2B5-9C70704EC6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54"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92AA95-1FBD-432F-BAE1-B80EC1A42C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56"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09FC9-3910-4513-B136-AA74ECB917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58"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59"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BC3F83-D353-4D75-B89E-44A2409B59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D7CD43-F264-4BD0-B1AF-1CAAAAA59B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FA9BF4-4ED9-4D71-8835-EDAA342559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63"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64"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65"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C74AFB-1E9F-43CF-B3EE-D5290AA65C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0"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1"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2"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F4E37-AA3C-4595-B9C0-189D978BA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67"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68"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69"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305C83-4FA6-4D8D-BDFA-EB955AB41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71"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72"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73"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24152-CE87-451D-8859-BE07B969A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75"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76"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847AD0-152C-4091-85BF-400C7467D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78"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79"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0"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1"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F5FDF7-C2F6-45E4-84C6-11E5A377F8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83"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4"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5"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6"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7"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88"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FEAEA5-5206-4CDB-90D9-7E4B207958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F22032-E4FE-4825-BDC5-C5F468DF67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95"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1E8B81-18DD-47F1-A842-799281F4B8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97"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CDB053-306A-4564-AD9A-350FE38D57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99"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00"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A7FBE7-CAE3-40D6-87A8-438E75E833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4E306C-7546-4DED-9CFA-59F31BA128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24"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5"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26"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1A5F-6173-470C-91EE-35D94897F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15998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2A4627-A226-49EF-9F7F-BAE6B4D65E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04"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05" name="PlaceHolder 3"/>
          <p:cNvSpPr>
            <a:spLocks noGrp="1"/>
          </p:cNvSpPr>
          <p:nvPr>
            <p:ph/>
          </p:nvPr>
        </p:nvSpPr>
        <p:spPr>
          <a:xfrm>
            <a:off x="467424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06"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E204A0-F915-475C-8AB8-5A1B6F1146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08" name="PlaceHolder 2"/>
          <p:cNvSpPr>
            <a:spLocks noGrp="1"/>
          </p:cNvSpPr>
          <p:nvPr>
            <p:ph/>
          </p:nvPr>
        </p:nvSpPr>
        <p:spPr>
          <a:xfrm>
            <a:off x="457200" y="2925720"/>
            <a:ext cx="40158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09"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10" name="PlaceHolder 4"/>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9AB0D3-200A-4F45-8CFD-F17416A89F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12"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13"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14" name="PlaceHolder 4"/>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8D3717-0968-454B-AEA9-5CC5583F2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16" name="PlaceHolder 2"/>
          <p:cNvSpPr>
            <a:spLocks noGrp="1"/>
          </p:cNvSpPr>
          <p:nvPr>
            <p:ph/>
          </p:nvPr>
        </p:nvSpPr>
        <p:spPr>
          <a:xfrm>
            <a:off x="457200" y="29257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17" name="PlaceHolder 3"/>
          <p:cNvSpPr>
            <a:spLocks noGrp="1"/>
          </p:cNvSpPr>
          <p:nvPr>
            <p:ph/>
          </p:nvPr>
        </p:nvSpPr>
        <p:spPr>
          <a:xfrm>
            <a:off x="457200" y="4358520"/>
            <a:ext cx="822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A83905-4268-4DEE-8208-63BD33F8C7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19" name="PlaceHolder 2"/>
          <p:cNvSpPr>
            <a:spLocks noGrp="1"/>
          </p:cNvSpPr>
          <p:nvPr>
            <p:ph/>
          </p:nvPr>
        </p:nvSpPr>
        <p:spPr>
          <a:xfrm>
            <a:off x="45720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0" name="PlaceHolder 3"/>
          <p:cNvSpPr>
            <a:spLocks noGrp="1"/>
          </p:cNvSpPr>
          <p:nvPr>
            <p:ph/>
          </p:nvPr>
        </p:nvSpPr>
        <p:spPr>
          <a:xfrm>
            <a:off x="4674240" y="29257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1" name="PlaceHolder 4"/>
          <p:cNvSpPr>
            <a:spLocks noGrp="1"/>
          </p:cNvSpPr>
          <p:nvPr>
            <p:ph/>
          </p:nvPr>
        </p:nvSpPr>
        <p:spPr>
          <a:xfrm>
            <a:off x="45720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2" name="PlaceHolder 5"/>
          <p:cNvSpPr>
            <a:spLocks noGrp="1"/>
          </p:cNvSpPr>
          <p:nvPr>
            <p:ph/>
          </p:nvPr>
        </p:nvSpPr>
        <p:spPr>
          <a:xfrm>
            <a:off x="4674240" y="4358520"/>
            <a:ext cx="40158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1BFCDD-8404-4CDE-9FD4-F14BAFF5D5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24" name="PlaceHolder 2"/>
          <p:cNvSpPr>
            <a:spLocks noGrp="1"/>
          </p:cNvSpPr>
          <p:nvPr>
            <p:ph/>
          </p:nvPr>
        </p:nvSpPr>
        <p:spPr>
          <a:xfrm>
            <a:off x="45720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5" name="PlaceHolder 3"/>
          <p:cNvSpPr>
            <a:spLocks noGrp="1"/>
          </p:cNvSpPr>
          <p:nvPr>
            <p:ph/>
          </p:nvPr>
        </p:nvSpPr>
        <p:spPr>
          <a:xfrm>
            <a:off x="323964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6" name="PlaceHolder 4"/>
          <p:cNvSpPr>
            <a:spLocks noGrp="1"/>
          </p:cNvSpPr>
          <p:nvPr>
            <p:ph/>
          </p:nvPr>
        </p:nvSpPr>
        <p:spPr>
          <a:xfrm>
            <a:off x="6022080" y="29257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7" name="PlaceHolder 5"/>
          <p:cNvSpPr>
            <a:spLocks noGrp="1"/>
          </p:cNvSpPr>
          <p:nvPr>
            <p:ph/>
          </p:nvPr>
        </p:nvSpPr>
        <p:spPr>
          <a:xfrm>
            <a:off x="45720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8" name="PlaceHolder 6"/>
          <p:cNvSpPr>
            <a:spLocks noGrp="1"/>
          </p:cNvSpPr>
          <p:nvPr>
            <p:ph/>
          </p:nvPr>
        </p:nvSpPr>
        <p:spPr>
          <a:xfrm>
            <a:off x="323964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329" name="PlaceHolder 7"/>
          <p:cNvSpPr>
            <a:spLocks noGrp="1"/>
          </p:cNvSpPr>
          <p:nvPr>
            <p:ph/>
          </p:nvPr>
        </p:nvSpPr>
        <p:spPr>
          <a:xfrm>
            <a:off x="6022080" y="4358520"/>
            <a:ext cx="2649600" cy="1308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5AD72B-69D9-47A2-8A24-1A841C8957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CF3F03-D7F2-4DF3-B359-7614EB763E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36" name="PlaceHolder 2"/>
          <p:cNvSpPr>
            <a:spLocks noGrp="1"/>
          </p:cNvSpPr>
          <p:nvPr>
            <p:ph type="subTitle"/>
          </p:nvPr>
        </p:nvSpPr>
        <p:spPr>
          <a:xfrm>
            <a:off x="457200" y="2925720"/>
            <a:ext cx="8229600" cy="2743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E5C4A1-5D45-4C5D-B562-9A7DC3AE8A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1b2c5f"/>
              </a:solidFill>
              <a:latin typeface="Univers 55"/>
            </a:endParaRPr>
          </a:p>
        </p:txBody>
      </p:sp>
      <p:sp>
        <p:nvSpPr>
          <p:cNvPr id="338" name="PlaceHolder 2"/>
          <p:cNvSpPr>
            <a:spLocks noGrp="1"/>
          </p:cNvSpPr>
          <p:nvPr>
            <p:ph/>
          </p:nvPr>
        </p:nvSpPr>
        <p:spPr>
          <a:xfrm>
            <a:off x="457200" y="2925720"/>
            <a:ext cx="8229600" cy="27432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b2c5f"/>
              </a:solidFill>
              <a:latin typeface="Univers 55"/>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86854F-A319-45BD-BB34-891DA6690A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1"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2" name="PlaceHolder 3"/>
          <p:cNvSpPr>
            <a:spLocks noGrp="1"/>
          </p:cNvSpPr>
          <p:nvPr>
            <p:ph type="dt" idx="1"/>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B2FD-5496-43E7-B31C-903D0B37ED0F}"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pic>
        <p:nvPicPr>
          <p:cNvPr id="5" name="Picture 6" descr="AIBS0105_NEONlogo"/>
          <p:cNvPicPr/>
          <p:nvPr/>
        </p:nvPicPr>
        <p:blipFill>
          <a:blip r:embed="rId3"/>
          <a:srcRect l="8571" t="29344" r="9426" b="29344"/>
          <a:stretch/>
        </p:blipFill>
        <p:spPr>
          <a:xfrm>
            <a:off x="281160" y="415800"/>
            <a:ext cx="685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372"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373" name="PlaceHolder 3"/>
          <p:cNvSpPr>
            <a:spLocks noGrp="1"/>
          </p:cNvSpPr>
          <p:nvPr>
            <p:ph type="dt" idx="28"/>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374" name="PlaceHolder 4"/>
          <p:cNvSpPr>
            <a:spLocks noGrp="1"/>
          </p:cNvSpPr>
          <p:nvPr>
            <p:ph type="ftr" idx="29"/>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375" name="PlaceHolder 5"/>
          <p:cNvSpPr>
            <a:spLocks noGrp="1"/>
          </p:cNvSpPr>
          <p:nvPr>
            <p:ph type="sldNum" idx="30"/>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9DBD-8907-4AD3-8153-43EB984DF206}"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413"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414" name="PlaceHolder 3"/>
          <p:cNvSpPr>
            <a:spLocks noGrp="1"/>
          </p:cNvSpPr>
          <p:nvPr>
            <p:ph type="dt" idx="31"/>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415" name="PlaceHolder 4"/>
          <p:cNvSpPr>
            <a:spLocks noGrp="1"/>
          </p:cNvSpPr>
          <p:nvPr>
            <p:ph type="ftr" idx="32"/>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416" name="PlaceHolder 5"/>
          <p:cNvSpPr>
            <a:spLocks noGrp="1"/>
          </p:cNvSpPr>
          <p:nvPr>
            <p:ph type="sldNum" idx="33"/>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9902-05FB-4B1A-8636-35306EBF8AFC}"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454"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455" name="PlaceHolder 3"/>
          <p:cNvSpPr>
            <a:spLocks noGrp="1"/>
          </p:cNvSpPr>
          <p:nvPr>
            <p:ph type="dt" idx="34"/>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456" name="PlaceHolder 4"/>
          <p:cNvSpPr>
            <a:spLocks noGrp="1"/>
          </p:cNvSpPr>
          <p:nvPr>
            <p:ph type="ftr" idx="35"/>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457" name="PlaceHolder 5"/>
          <p:cNvSpPr>
            <a:spLocks noGrp="1"/>
          </p:cNvSpPr>
          <p:nvPr>
            <p:ph type="sldNum" idx="36"/>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8252-6376-46E5-84D2-9EFB5ED2F8F6}"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43"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44" name="PlaceHolder 3"/>
          <p:cNvSpPr>
            <a:spLocks noGrp="1"/>
          </p:cNvSpPr>
          <p:nvPr>
            <p:ph type="dt" idx="4"/>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45"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46" name="PlaceHolder 5"/>
          <p:cNvSpPr>
            <a:spLocks noGrp="1"/>
          </p:cNvSpPr>
          <p:nvPr>
            <p:ph type="sldNum" idx="6"/>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DE09-BBC5-4783-9876-BD27504D572C}"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84"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85" name="PlaceHolder 3"/>
          <p:cNvSpPr>
            <a:spLocks noGrp="1"/>
          </p:cNvSpPr>
          <p:nvPr>
            <p:ph type="dt" idx="7"/>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86" name="PlaceHolder 4"/>
          <p:cNvSpPr>
            <a:spLocks noGrp="1"/>
          </p:cNvSpPr>
          <p:nvPr>
            <p:ph type="ftr" idx="8"/>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87" name="PlaceHolder 5"/>
          <p:cNvSpPr>
            <a:spLocks noGrp="1"/>
          </p:cNvSpPr>
          <p:nvPr>
            <p:ph type="sldNum" idx="9"/>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D33D-DD51-4061-ACA5-E924307DD857}"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125"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126" name="PlaceHolder 3"/>
          <p:cNvSpPr>
            <a:spLocks noGrp="1"/>
          </p:cNvSpPr>
          <p:nvPr>
            <p:ph type="dt" idx="10"/>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127" name="PlaceHolder 4"/>
          <p:cNvSpPr>
            <a:spLocks noGrp="1"/>
          </p:cNvSpPr>
          <p:nvPr>
            <p:ph type="ftr" idx="1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128" name="PlaceHolder 5"/>
          <p:cNvSpPr>
            <a:spLocks noGrp="1"/>
          </p:cNvSpPr>
          <p:nvPr>
            <p:ph type="sldNum" idx="12"/>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6D01-F774-4257-9275-447A70E552B6}"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itle 1"/>
          <p:cNvSpPr/>
          <p:nvPr/>
        </p:nvSpPr>
        <p:spPr>
          <a:xfrm>
            <a:off x="990720" y="0"/>
            <a:ext cx="67816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ea typeface="Univers 55"/>
              </a:rPr>
              <a:t>Click to edit</a:t>
            </a:r>
            <a:br>
              <a:rPr sz="2400"/>
            </a:br>
            <a:r>
              <a:rPr b="1" lang="en-US" sz="2400" spc="-1" strike="noStrike">
                <a:solidFill>
                  <a:srgbClr val="ffffff"/>
                </a:solidFill>
                <a:latin typeface="Univers 55"/>
                <a:ea typeface="Univers 55"/>
              </a:rPr>
              <a:t>Master title style</a:t>
            </a:r>
            <a:endParaRPr b="0" lang="en-US" sz="2400" spc="-1" strike="noStrike">
              <a:solidFill>
                <a:srgbClr val="000000"/>
              </a:solidFill>
              <a:latin typeface="Arial"/>
            </a:endParaRPr>
          </a:p>
        </p:txBody>
      </p:sp>
      <p:sp>
        <p:nvSpPr>
          <p:cNvPr id="166"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167"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168" name="PlaceHolder 3"/>
          <p:cNvSpPr>
            <a:spLocks noGrp="1"/>
          </p:cNvSpPr>
          <p:nvPr>
            <p:ph type="dt" idx="13"/>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169" name="PlaceHolder 4"/>
          <p:cNvSpPr>
            <a:spLocks noGrp="1"/>
          </p:cNvSpPr>
          <p:nvPr>
            <p:ph type="ftr" idx="14"/>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170" name="PlaceHolder 5"/>
          <p:cNvSpPr>
            <a:spLocks noGrp="1"/>
          </p:cNvSpPr>
          <p:nvPr>
            <p:ph type="sldNum" idx="15"/>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6F90-4A7B-4DDF-A812-306DBD354F04}"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208"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209" name="PlaceHolder 3"/>
          <p:cNvSpPr>
            <a:spLocks noGrp="1"/>
          </p:cNvSpPr>
          <p:nvPr>
            <p:ph type="dt" idx="16"/>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210" name="PlaceHolder 4"/>
          <p:cNvSpPr>
            <a:spLocks noGrp="1"/>
          </p:cNvSpPr>
          <p:nvPr>
            <p:ph type="ftr" idx="17"/>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211" name="PlaceHolder 5"/>
          <p:cNvSpPr>
            <a:spLocks noGrp="1"/>
          </p:cNvSpPr>
          <p:nvPr>
            <p:ph type="sldNum" idx="18"/>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FF28-3353-4EB7-9F06-6644FA64B964}"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249"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250" name="PlaceHolder 3"/>
          <p:cNvSpPr>
            <a:spLocks noGrp="1"/>
          </p:cNvSpPr>
          <p:nvPr>
            <p:ph type="dt" idx="19"/>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251" name="PlaceHolder 4"/>
          <p:cNvSpPr>
            <a:spLocks noGrp="1"/>
          </p:cNvSpPr>
          <p:nvPr>
            <p:ph type="ftr" idx="20"/>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252" name="PlaceHolder 5"/>
          <p:cNvSpPr>
            <a:spLocks noGrp="1"/>
          </p:cNvSpPr>
          <p:nvPr>
            <p:ph type="sldNum" idx="21"/>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2AE1-F7E8-4929-82F2-B34F8D559121}"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290"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291" name="PlaceHolder 3"/>
          <p:cNvSpPr>
            <a:spLocks noGrp="1"/>
          </p:cNvSpPr>
          <p:nvPr>
            <p:ph type="dt" idx="22"/>
          </p:nvPr>
        </p:nvSpPr>
        <p:spPr>
          <a:xfrm>
            <a:off x="15192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4"/>
          <p:cNvSpPr>
            <a:spLocks noGrp="1"/>
          </p:cNvSpPr>
          <p:nvPr>
            <p:ph type="ftr" idx="23"/>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7598-84D5-4AE5-B00C-24BE065B8534}"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b2c5f"/>
                </a:solidFill>
                <a:latin typeface="Univers 55"/>
              </a:rPr>
              <a:t>Click to edit the title text format</a:t>
            </a:r>
            <a:endParaRPr b="1" lang="en-US" sz="3600" spc="-1" strike="noStrike">
              <a:solidFill>
                <a:srgbClr val="1b2c5f"/>
              </a:solidFill>
              <a:latin typeface="Univers 55"/>
            </a:endParaRPr>
          </a:p>
        </p:txBody>
      </p:sp>
      <p:sp>
        <p:nvSpPr>
          <p:cNvPr id="331" name="PlaceHolder 2"/>
          <p:cNvSpPr>
            <a:spLocks noGrp="1"/>
          </p:cNvSpPr>
          <p:nvPr>
            <p:ph type="body"/>
          </p:nvPr>
        </p:nvSpPr>
        <p:spPr>
          <a:xfrm>
            <a:off x="457200" y="2925720"/>
            <a:ext cx="8229600" cy="2743200"/>
          </a:xfrm>
          <a:prstGeom prst="rect">
            <a:avLst/>
          </a:prstGeom>
          <a:noFill/>
          <a:ln w="0">
            <a:noFill/>
          </a:ln>
        </p:spPr>
        <p:txBody>
          <a:bodyPr lIns="90000" rIns="90000" tIns="46800" bIns="46800" anchor="t">
            <a:normAutofit fontScale="65000"/>
          </a:bodyPr>
          <a:p>
            <a:pPr marL="222840" indent="-22284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Click to edit the outline text format</a:t>
            </a:r>
            <a:endParaRPr b="0" lang="en-US" sz="3200" spc="-1" strike="noStrike">
              <a:solidFill>
                <a:srgbClr val="1b2c5f"/>
              </a:solidFill>
              <a:latin typeface="Univers 55"/>
            </a:endParaRPr>
          </a:p>
          <a:p>
            <a:pPr lvl="1" marL="482760" indent="-18576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cond Outline Level</a:t>
            </a:r>
            <a:endParaRPr b="0" lang="en-US" sz="3200" spc="-1" strike="noStrike">
              <a:solidFill>
                <a:srgbClr val="1b2c5f"/>
              </a:solidFill>
              <a:latin typeface="Univers 55"/>
            </a:endParaRPr>
          </a:p>
          <a:p>
            <a:pPr lvl="2" marL="74268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Third Outline Level</a:t>
            </a:r>
            <a:endParaRPr b="0" lang="en-US" sz="3200" spc="-1" strike="noStrike">
              <a:solidFill>
                <a:srgbClr val="1b2c5f"/>
              </a:solidFill>
              <a:latin typeface="Univers 55"/>
            </a:endParaRPr>
          </a:p>
          <a:p>
            <a:pPr lvl="3" marL="1040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ourth Outline Level</a:t>
            </a:r>
            <a:endParaRPr b="0" lang="en-US" sz="3200" spc="-1" strike="noStrike">
              <a:solidFill>
                <a:srgbClr val="1b2c5f"/>
              </a:solidFill>
              <a:latin typeface="Univers 55"/>
            </a:endParaRPr>
          </a:p>
          <a:p>
            <a:pPr lvl="4" marL="1337040" indent="-14832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Fifth Outline Level</a:t>
            </a:r>
            <a:endParaRPr b="0" lang="en-US" sz="3200" spc="-1" strike="noStrike">
              <a:solidFill>
                <a:srgbClr val="1b2c5f"/>
              </a:solidFill>
              <a:latin typeface="Univers 55"/>
            </a:endParaRPr>
          </a:p>
          <a:p>
            <a:pPr lvl="5"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ixth Outline Level</a:t>
            </a:r>
            <a:endParaRPr b="0" lang="en-US" sz="3200" spc="-1" strike="noStrike">
              <a:solidFill>
                <a:srgbClr val="1b2c5f"/>
              </a:solidFill>
              <a:latin typeface="Univers 55"/>
            </a:endParaRPr>
          </a:p>
          <a:p>
            <a:pPr lvl="6" marL="1337040" indent="-148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Seventh Outline Level</a:t>
            </a:r>
            <a:endParaRPr b="0" lang="en-US" sz="3200" spc="-1" strike="noStrike">
              <a:solidFill>
                <a:srgbClr val="1b2c5f"/>
              </a:solidFill>
              <a:latin typeface="Univers 55"/>
            </a:endParaRPr>
          </a:p>
        </p:txBody>
      </p:sp>
      <p:sp>
        <p:nvSpPr>
          <p:cNvPr id="332" name="PlaceHolder 3"/>
          <p:cNvSpPr>
            <a:spLocks noGrp="1"/>
          </p:cNvSpPr>
          <p:nvPr>
            <p:ph type="dt" idx="25"/>
          </p:nvPr>
        </p:nvSpPr>
        <p:spPr>
          <a:xfrm>
            <a:off x="151920" y="6476760"/>
            <a:ext cx="21337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Times New Roman"/>
            </a:endParaRPr>
          </a:p>
        </p:txBody>
      </p:sp>
      <p:sp>
        <p:nvSpPr>
          <p:cNvPr id="333" name="PlaceHolder 4"/>
          <p:cNvSpPr>
            <a:spLocks noGrp="1"/>
          </p:cNvSpPr>
          <p:nvPr>
            <p:ph type="ftr" idx="26"/>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Times New Roman"/>
            </a:endParaRPr>
          </a:p>
        </p:txBody>
      </p:sp>
      <p:sp>
        <p:nvSpPr>
          <p:cNvPr id="334" name="PlaceHolder 5"/>
          <p:cNvSpPr>
            <a:spLocks noGrp="1"/>
          </p:cNvSpPr>
          <p:nvPr>
            <p:ph type="sldNum" idx="27"/>
          </p:nvPr>
        </p:nvSpPr>
        <p:spPr>
          <a:xfrm>
            <a:off x="68576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Univers 55"/>
                <a:ea typeface="Univers 55"/>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A5F0-964B-486C-9A02-8FBE6F7BBA38}" type="slidenum">
              <a:rPr b="0" lang="en-US" sz="800" spc="-1" strike="noStrike">
                <a:solidFill>
                  <a:srgbClr val="898989"/>
                </a:solidFill>
                <a:latin typeface="Univers 55"/>
                <a:ea typeface="Univers 55"/>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8" descr="http://www.globalchange.gov/images/stories/reports/SAPs/4.6.png"/>
          <p:cNvPicPr/>
          <p:nvPr/>
        </p:nvPicPr>
        <p:blipFill>
          <a:blip r:embed="rId1"/>
          <a:stretch/>
        </p:blipFill>
        <p:spPr>
          <a:xfrm>
            <a:off x="3828960" y="1241280"/>
            <a:ext cx="2814840" cy="3624480"/>
          </a:xfrm>
          <a:prstGeom prst="rect">
            <a:avLst/>
          </a:prstGeom>
          <a:ln w="0">
            <a:noFill/>
          </a:ln>
        </p:spPr>
      </p:pic>
      <p:sp>
        <p:nvSpPr>
          <p:cNvPr id="495"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Scientific assessments, e.g. USGCRP</a:t>
            </a:r>
            <a:endParaRPr b="1" lang="en-US" sz="2400" spc="-1" strike="noStrike">
              <a:solidFill>
                <a:srgbClr val="1b2c5f"/>
              </a:solidFill>
              <a:latin typeface="Univers 55"/>
            </a:endParaRPr>
          </a:p>
        </p:txBody>
      </p:sp>
      <p:sp>
        <p:nvSpPr>
          <p:cNvPr id="496"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316D-D995-43B5-A6CF-B142DBFF22A5}"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pic>
        <p:nvPicPr>
          <p:cNvPr id="497" name="Picture 4" descr="http://www.globalchange.gov/images/stories/reports/SAPs/4.3.png"/>
          <p:cNvPicPr/>
          <p:nvPr/>
        </p:nvPicPr>
        <p:blipFill>
          <a:blip r:embed="rId2"/>
          <a:stretch/>
        </p:blipFill>
        <p:spPr>
          <a:xfrm>
            <a:off x="250920" y="1225440"/>
            <a:ext cx="2806560" cy="3633840"/>
          </a:xfrm>
          <a:prstGeom prst="rect">
            <a:avLst/>
          </a:prstGeom>
          <a:ln w="0">
            <a:noFill/>
          </a:ln>
        </p:spPr>
      </p:pic>
      <p:pic>
        <p:nvPicPr>
          <p:cNvPr id="498" name="Picture 6" descr="http://www.globalchange.gov/images/stories/reports/SAPs/4.1.png"/>
          <p:cNvPicPr/>
          <p:nvPr/>
        </p:nvPicPr>
        <p:blipFill>
          <a:blip r:embed="rId3"/>
          <a:stretch/>
        </p:blipFill>
        <p:spPr>
          <a:xfrm>
            <a:off x="2044800" y="2884320"/>
            <a:ext cx="2797200" cy="3621240"/>
          </a:xfrm>
          <a:prstGeom prst="rect">
            <a:avLst/>
          </a:prstGeom>
          <a:ln w="0">
            <a:noFill/>
          </a:ln>
        </p:spPr>
      </p:pic>
      <p:pic>
        <p:nvPicPr>
          <p:cNvPr id="499" name="Picture 10" descr="http://www.globalchange.gov/images/stories/reports/SAPs/5.1.png"/>
          <p:cNvPicPr/>
          <p:nvPr/>
        </p:nvPicPr>
        <p:blipFill>
          <a:blip r:embed="rId4"/>
          <a:stretch/>
        </p:blipFill>
        <p:spPr>
          <a:xfrm>
            <a:off x="5630760" y="2873520"/>
            <a:ext cx="2795760" cy="36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On a smaller and ‘regular’ scale…</a:t>
            </a:r>
            <a:endParaRPr b="1" lang="en-US" sz="2400" spc="-1" strike="noStrike">
              <a:solidFill>
                <a:srgbClr val="1b2c5f"/>
              </a:solidFill>
              <a:latin typeface="Univers 55"/>
            </a:endParaRPr>
          </a:p>
        </p:txBody>
      </p:sp>
      <p:sp>
        <p:nvSpPr>
          <p:cNvPr id="501" name=""/>
          <p:cNvSpPr txBox="1"/>
          <p:nvPr/>
        </p:nvSpPr>
        <p:spPr>
          <a:xfrm>
            <a:off x="152280" y="1371240"/>
            <a:ext cx="8839440" cy="4800600"/>
          </a:xfrm>
          <a:prstGeom prst="rect">
            <a:avLst/>
          </a:prstGeom>
          <a:noFill/>
          <a:ln w="0">
            <a:noFill/>
          </a:ln>
        </p:spPr>
        <p:txBody>
          <a:bodyPr anchor="t">
            <a:normAutofit/>
          </a:bodyPr>
          <a:p>
            <a:pPr marL="343080" indent="-343080">
              <a:spcBef>
                <a:spcPts val="799"/>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b2c5f"/>
                </a:solidFill>
                <a:latin typeface="Univers 55"/>
              </a:rPr>
              <a:t>Assessments done at the agency level for specific issues,</a:t>
            </a:r>
            <a:endParaRPr b="0" lang="en-US" sz="3200" spc="-1" strike="noStrike">
              <a:solidFill>
                <a:srgbClr val="1b2c5f"/>
              </a:solidFill>
              <a:latin typeface="Univers 55"/>
            </a:endParaRPr>
          </a:p>
          <a:p>
            <a:pPr lvl="1" marL="743040" indent="-285840">
              <a:spcBef>
                <a:spcPts val="700"/>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1b2c5f"/>
                </a:solidFill>
                <a:latin typeface="Univers 55"/>
              </a:rPr>
              <a:t>E.g. EPA on water quality of the nation’s lakes</a:t>
            </a:r>
            <a:endParaRPr b="0" lang="en-US" sz="2800" spc="-1" strike="noStrike">
              <a:solidFill>
                <a:srgbClr val="1b2c5f"/>
              </a:solidFill>
              <a:latin typeface="Univers 55"/>
            </a:endParaRPr>
          </a:p>
          <a:p>
            <a:pPr lvl="1" marL="743040" indent="-285840">
              <a:spcBef>
                <a:spcPts val="700"/>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1b2c5f"/>
                </a:solidFill>
                <a:latin typeface="Univers 55"/>
              </a:rPr>
              <a:t>USDA ARS on water use and agriculture</a:t>
            </a:r>
            <a:endParaRPr b="0" lang="en-US" sz="2800" spc="-1" strike="noStrike">
              <a:solidFill>
                <a:srgbClr val="1b2c5f"/>
              </a:solidFill>
              <a:latin typeface="Univers 55"/>
            </a:endParaRPr>
          </a:p>
        </p:txBody>
      </p:sp>
      <p:sp>
        <p:nvSpPr>
          <p:cNvPr id="502" name="Date Placeholder 3"/>
          <p:cNvSpPr/>
          <p:nvPr/>
        </p:nvSpPr>
        <p:spPr>
          <a:xfrm>
            <a:off x="1522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June 2009</a:t>
            </a:r>
            <a:endParaRPr b="0" lang="en-US" sz="800" spc="-1" strike="noStrike">
              <a:solidFill>
                <a:srgbClr val="000000"/>
              </a:solidFill>
              <a:latin typeface="Arial"/>
            </a:endParaRPr>
          </a:p>
        </p:txBody>
      </p:sp>
      <p:sp>
        <p:nvSpPr>
          <p:cNvPr id="503" name="Footer Placeholder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Univers 55"/>
                <a:ea typeface="Univers 55"/>
              </a:rPr>
              <a:t>NEON PDR</a:t>
            </a:r>
            <a:endParaRPr b="0" lang="en-US" sz="800" spc="-1" strike="noStrike">
              <a:solidFill>
                <a:srgbClr val="000000"/>
              </a:solidFill>
              <a:latin typeface="Arial"/>
            </a:endParaRPr>
          </a:p>
        </p:txBody>
      </p:sp>
      <p:sp>
        <p:nvSpPr>
          <p:cNvPr id="504"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5022-C53C-49A4-88D2-F4968F40836D}"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Science for science’s sake?</a:t>
            </a:r>
            <a:endParaRPr b="1" lang="en-US" sz="2400" spc="-1" strike="noStrike">
              <a:solidFill>
                <a:srgbClr val="1b2c5f"/>
              </a:solidFill>
              <a:latin typeface="Univers 55"/>
            </a:endParaRPr>
          </a:p>
        </p:txBody>
      </p:sp>
      <p:sp>
        <p:nvSpPr>
          <p:cNvPr id="506"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33CB-8341-482C-8AA8-6D889118D0C1}"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sp>
        <p:nvSpPr>
          <p:cNvPr id="507" name="Rectangle 6"/>
          <p:cNvSpPr/>
          <p:nvPr/>
        </p:nvSpPr>
        <p:spPr>
          <a:xfrm>
            <a:off x="152280" y="1665360"/>
            <a:ext cx="8839440" cy="2654280"/>
          </a:xfrm>
          <a:prstGeom prst="rect">
            <a:avLst/>
          </a:prstGeom>
          <a:noFill/>
          <a:ln w="19080">
            <a:solidFill>
              <a:srgbClr val="004a4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cientists doing environmental monitoring are "not being very effective if we are just generating data for more scientists to play with. We’re not being very effective if we’re focused on databases and peer-reviewed publications….How we see our knowledge used in decisions becomes the measure. The delivery of tailored information becomes the point."</a:t>
            </a:r>
            <a:endParaRPr b="0" lang="en-US" sz="2400" spc="-1" strike="noStrike">
              <a:solidFill>
                <a:srgbClr val="000000"/>
              </a:solidFill>
              <a:latin typeface="Arial"/>
            </a:endParaRPr>
          </a:p>
        </p:txBody>
      </p:sp>
      <p:sp>
        <p:nvSpPr>
          <p:cNvPr id="508" name="TextBox 7"/>
          <p:cNvSpPr/>
          <p:nvPr/>
        </p:nvSpPr>
        <p:spPr>
          <a:xfrm>
            <a:off x="3581280" y="5018040"/>
            <a:ext cx="5562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gue Vaughn, Director of Environment Canada's Ecological Monitoring and Assessment Network Coordinating Office</a:t>
            </a:r>
            <a:endParaRPr b="0" lang="en-US" sz="1800" spc="-1" strike="noStrike">
              <a:solidFill>
                <a:srgbClr val="000000"/>
              </a:solidFill>
              <a:latin typeface="Arial"/>
            </a:endParaRPr>
          </a:p>
        </p:txBody>
      </p:sp>
      <p:sp>
        <p:nvSpPr>
          <p:cNvPr id="509" name="TextBox 7"/>
          <p:cNvSpPr/>
          <p:nvPr/>
        </p:nvSpPr>
        <p:spPr>
          <a:xfrm>
            <a:off x="874800" y="1019160"/>
            <a:ext cx="7512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om Alli Srinivas and Gene Russo (U Maryland) Masters of Pub. Policy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The problem: Food, fiber, energy, water</a:t>
            </a:r>
            <a:endParaRPr b="1" lang="en-US" sz="2400" spc="-1" strike="noStrike">
              <a:solidFill>
                <a:srgbClr val="1b2c5f"/>
              </a:solidFill>
              <a:latin typeface="Univers 55"/>
            </a:endParaRPr>
          </a:p>
        </p:txBody>
      </p:sp>
      <p:sp>
        <p:nvSpPr>
          <p:cNvPr id="511"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7445-C389-4F1D-984C-B7AF39EB8423}"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pic>
        <p:nvPicPr>
          <p:cNvPr id="512" name="Picture 6" descr="LandscapeInteractions.v1.0.tif"/>
          <p:cNvPicPr/>
          <p:nvPr/>
        </p:nvPicPr>
        <p:blipFill>
          <a:blip r:embed="rId1"/>
          <a:srcRect l="0" t="0" r="0" b="50003"/>
          <a:stretch/>
        </p:blipFill>
        <p:spPr>
          <a:xfrm>
            <a:off x="1492200" y="992160"/>
            <a:ext cx="6496200" cy="586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Science and Policy interface</a:t>
            </a:r>
            <a:endParaRPr b="1" lang="en-US" sz="2400" spc="-1" strike="noStrike">
              <a:solidFill>
                <a:srgbClr val="1b2c5f"/>
              </a:solidFill>
              <a:latin typeface="Univers 55"/>
            </a:endParaRPr>
          </a:p>
        </p:txBody>
      </p:sp>
      <p:sp>
        <p:nvSpPr>
          <p:cNvPr id="514"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2F18-7AF4-4706-A62E-D917DBA3BE1E}"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pic>
        <p:nvPicPr>
          <p:cNvPr id="515" name="Picture 11" descr=""/>
          <p:cNvPicPr/>
          <p:nvPr/>
        </p:nvPicPr>
        <p:blipFill>
          <a:blip r:embed="rId1"/>
          <a:stretch/>
        </p:blipFill>
        <p:spPr>
          <a:xfrm>
            <a:off x="372960" y="1314360"/>
            <a:ext cx="8347320" cy="4546800"/>
          </a:xfrm>
          <a:prstGeom prst="rect">
            <a:avLst/>
          </a:prstGeom>
          <a:ln w="0">
            <a:noFill/>
          </a:ln>
        </p:spPr>
      </p:pic>
      <p:sp>
        <p:nvSpPr>
          <p:cNvPr id="516" name="TextBox 15"/>
          <p:cNvSpPr/>
          <p:nvPr/>
        </p:nvSpPr>
        <p:spPr>
          <a:xfrm>
            <a:off x="334800" y="5979960"/>
            <a:ext cx="8077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from Pouyat, et al. 2010. The role of federal agencies in the application of scientific knowledge. </a:t>
            </a:r>
            <a:r>
              <a:rPr b="0" i="1" lang="en-US" sz="1600" spc="-1" strike="noStrike">
                <a:solidFill>
                  <a:srgbClr val="000000"/>
                </a:solidFill>
                <a:latin typeface="Arial"/>
              </a:rPr>
              <a:t>Frontiers in Ecology and the Environment </a:t>
            </a:r>
            <a:r>
              <a:rPr b="0" lang="en-US" sz="1600" spc="-1" strike="noStrike">
                <a:solidFill>
                  <a:srgbClr val="000000"/>
                </a:solidFill>
                <a:latin typeface="Arial"/>
              </a:rPr>
              <a:t>8(6): 322-32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a:t>
            </a:r>
            <a:r>
              <a:rPr b="1" lang="en-US" sz="2400" spc="-1" strike="noStrike">
                <a:solidFill>
                  <a:srgbClr val="ffffff"/>
                </a:solidFill>
                <a:latin typeface="Univers 55"/>
              </a:rPr>
              <a:t>Translating science” and decision making”</a:t>
            </a:r>
            <a:endParaRPr b="1" lang="en-US" sz="2400" spc="-1" strike="noStrike">
              <a:solidFill>
                <a:srgbClr val="1b2c5f"/>
              </a:solidFill>
              <a:latin typeface="Univers 55"/>
            </a:endParaRPr>
          </a:p>
        </p:txBody>
      </p:sp>
      <p:sp>
        <p:nvSpPr>
          <p:cNvPr id="518" name=""/>
          <p:cNvSpPr txBox="1"/>
          <p:nvPr/>
        </p:nvSpPr>
        <p:spPr>
          <a:xfrm>
            <a:off x="152280" y="1371240"/>
            <a:ext cx="8839440" cy="4800600"/>
          </a:xfrm>
          <a:prstGeom prst="rect">
            <a:avLst/>
          </a:prstGeom>
          <a:noFill/>
          <a:ln w="0">
            <a:noFill/>
          </a:ln>
        </p:spPr>
        <p:txBody>
          <a:bodyPr anchor="t">
            <a:normAutofit/>
          </a:bodyPr>
          <a:p>
            <a:pPr marL="343080" indent="-343080">
              <a:spcBef>
                <a:spcPts val="601"/>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b2c5f"/>
                </a:solidFill>
                <a:latin typeface="Univers 55"/>
              </a:rPr>
              <a:t>“</a:t>
            </a:r>
            <a:r>
              <a:rPr b="0" lang="en-US" sz="2400" spc="-1" strike="noStrike">
                <a:solidFill>
                  <a:srgbClr val="1b2c5f"/>
                </a:solidFill>
                <a:latin typeface="Univers 55"/>
              </a:rPr>
              <a:t>Farm bill” (USDA)</a:t>
            </a:r>
            <a:endParaRPr b="0" lang="en-US" sz="24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Estimate program costs (e.g. incentive programs for farmers to retire highly erodible lands)</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Establish criteria for participation</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Establish verification (“spot-check”) and enforcement programs</a:t>
            </a:r>
            <a:endParaRPr b="0" lang="en-US" sz="2000" spc="-1" strike="noStrike">
              <a:solidFill>
                <a:srgbClr val="1b2c5f"/>
              </a:solidFill>
              <a:latin typeface="Univers 55"/>
            </a:endParaRPr>
          </a:p>
          <a:p>
            <a:pPr marL="343080" indent="-343080">
              <a:spcBef>
                <a:spcPts val="601"/>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b2c5f"/>
                </a:solidFill>
                <a:latin typeface="Univers 55"/>
              </a:rPr>
              <a:t>How?</a:t>
            </a:r>
            <a:endParaRPr b="0" lang="en-US" sz="24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Models are used to estimate the above</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Require data from various credible data sources</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Expose stakeholders, resource managers, policy analysts, budget analysts (“consumers of assessments”) to the inference chain that lead to the estimates produced by the model</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b2c5f"/>
              </a:solidFill>
              <a:latin typeface="Univers 55"/>
            </a:endParaRPr>
          </a:p>
        </p:txBody>
      </p:sp>
      <p:sp>
        <p:nvSpPr>
          <p:cNvPr id="519"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D845-A4CD-4F52-B720-639446A693F4}"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990720" y="0"/>
            <a:ext cx="678168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nivers 55"/>
              </a:rPr>
              <a:t>“</a:t>
            </a:r>
            <a:r>
              <a:rPr b="1" lang="en-US" sz="2400" spc="-1" strike="noStrike">
                <a:solidFill>
                  <a:srgbClr val="ffffff"/>
                </a:solidFill>
                <a:latin typeface="Univers 55"/>
              </a:rPr>
              <a:t>Translating science” and decision making”</a:t>
            </a:r>
            <a:endParaRPr b="1" lang="en-US" sz="2400" spc="-1" strike="noStrike">
              <a:solidFill>
                <a:srgbClr val="1b2c5f"/>
              </a:solidFill>
              <a:latin typeface="Univers 55"/>
            </a:endParaRPr>
          </a:p>
        </p:txBody>
      </p:sp>
      <p:sp>
        <p:nvSpPr>
          <p:cNvPr id="521" name=""/>
          <p:cNvSpPr txBox="1"/>
          <p:nvPr/>
        </p:nvSpPr>
        <p:spPr>
          <a:xfrm>
            <a:off x="152280" y="1371240"/>
            <a:ext cx="8839440" cy="4800600"/>
          </a:xfrm>
          <a:prstGeom prst="rect">
            <a:avLst/>
          </a:prstGeom>
          <a:noFill/>
          <a:ln w="0">
            <a:noFill/>
          </a:ln>
        </p:spPr>
        <p:txBody>
          <a:bodyPr anchor="t">
            <a:normAutofit/>
          </a:bodyPr>
          <a:p>
            <a:pPr marL="343080" indent="-343080">
              <a:spcBef>
                <a:spcPts val="601"/>
              </a:spcBef>
              <a:buClr>
                <a:srgbClr val="1b2c5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b2c5f"/>
                </a:solidFill>
                <a:latin typeface="Univers 55"/>
              </a:rPr>
              <a:t>Needs of consumers of these assessments</a:t>
            </a:r>
            <a:endParaRPr b="0" lang="en-US" sz="24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Access to the workflows to assess assumptions</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Have a “sandbox” copy of the original workflow to run “what-if” analyses</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b2c5f"/>
                </a:solidFill>
                <a:latin typeface="Univers 55"/>
              </a:rPr>
              <a:t>Just as scientific publications support supplementary digital resources, provide a similar “read-only” access to such assessment analyses to consumers of such assessments</a:t>
            </a:r>
            <a:endParaRPr b="0" lang="en-US" sz="2000" spc="-1" strike="noStrike">
              <a:solidFill>
                <a:srgbClr val="1b2c5f"/>
              </a:solidFill>
              <a:latin typeface="Univers 55"/>
            </a:endParaRPr>
          </a:p>
          <a:p>
            <a:pPr lvl="1" marL="743040" indent="-285840">
              <a:spcBef>
                <a:spcPts val="499"/>
              </a:spcBef>
              <a:buClr>
                <a:srgbClr val="1b2c5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b2c5f"/>
              </a:solidFill>
              <a:latin typeface="Univers 55"/>
            </a:endParaRPr>
          </a:p>
        </p:txBody>
      </p:sp>
      <p:sp>
        <p:nvSpPr>
          <p:cNvPr id="522" name="Slide Number Placeholder 5"/>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5BD9-F1EA-4922-ACEF-34BF5216CE1F}" type="slidenum">
              <a:rPr b="0" lang="en-US" sz="800" spc="-1" strike="noStrike">
                <a:solidFill>
                  <a:srgbClr val="898989"/>
                </a:solidFill>
                <a:latin typeface="Univers 55"/>
                <a:ea typeface="Univers 55"/>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7:44:22Z</dcterms:created>
  <dc:creator>tbeasley</dc:creator>
  <dc:description/>
  <dc:language>en-US</dc:language>
  <cp:lastModifiedBy>bwee</cp:lastModifiedBy>
  <dcterms:modified xsi:type="dcterms:W3CDTF">2011-07-13T16:47:14Z</dcterms:modified>
  <cp:revision>499</cp:revision>
  <dc:subject/>
  <dc:title>Slide 1</dc:title>
</cp:coreProperties>
</file>